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A05F-ADB2-4727-97D1-B47DCF9E1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D23D-0C7A-4638-802E-3098709F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74AC8-699C-4D9E-9944-70A96DB7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87A4F-AF8C-44E1-BD42-80005934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B7ED22-2E71-410A-A5C8-457D1A3C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1CC8FF-1C37-4BA6-ABCC-19997912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39D5C-8E35-420E-895B-2AA30596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6A280-E064-41A9-A177-B6813BD2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AF57DD-1B08-47F5-AE25-8C16D8A8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2F540-CD97-4F36-A22A-97D7E6036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40274-AA53-4295-8C5C-D0163F9CA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BA202-BADE-46D6-9FEC-40DD91350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C59F-487A-4D84-A726-F8099486E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777855-81DF-4408-90EE-464BB3E1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5E7D1F-AC14-4FD4-9952-5B5507F9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1EE37-DC12-41A3-82A9-B4EAA49C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920ABB-671B-4EE2-894C-22AEED68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E54E9-ED17-4B34-A595-F887A6D3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519008-EDA8-4C62-A11F-1846799C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53D71-73D7-4EAD-97A4-CAA9D489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8CEBDC-6457-460F-AC55-8B804175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A044AC-A692-41A1-8A0E-FAADF714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DD4923-6C4D-4A47-B739-6E606AA96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1197-2C4F-4780-8AFD-A4E732993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2A003C-C687-4931-927D-C25F5DFE0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917BD-780C-44C0-93B4-D5697C6B2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76573-5840-46C9-9A54-4B283BFE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97C5B-BB32-4AC0-8E2C-E098F03B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CA06A-DBEF-49A3-8006-CD6CD34E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3E920-1F37-44B5-B5D9-6C895510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8D338-E915-4444-B379-AD9C0128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7CDE6-997B-4D69-BC62-49CB77E7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681AF-5CF7-4B96-89F5-3807D32A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BDF58-56EF-42C5-9EEE-D1A8CDF2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2A9B-0B1F-45CD-AE2F-4A461CC7C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AD398-9A69-4B02-B18A-D58100E8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06A75E-15F5-499F-BFE6-2044FDE3D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937B9-C3F0-4600-80FA-24DFDF2B0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CEC897-3C94-4238-983E-A1137F6F7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2CEF20-2826-49B9-A822-10141F59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8A80F4-9F8A-4A59-880C-5656C194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C06D8F-8687-40CF-B10A-C00098C4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3FBCC3-F3EC-43F3-87F4-EB8BC4EE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338323-DC39-4A93-A45E-44FFD478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410BCE-7A06-4EB6-9847-669454A4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A204-D89F-4F6B-B487-ED01FD35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0CDB4C-AA7B-44D1-8110-ABE6AF1A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2407FE-A205-4F02-B925-2C69D46B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184C88-3A5A-4A4C-984D-2553344E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FF7F79-0308-469A-8468-B2FB414BD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ABB06D-8152-46B4-B597-7DCC6B250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702D-F9BA-42DA-90D4-EE5F36A3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B0AC-E06E-45BC-9C4B-5708FB12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A541-0A0D-47CA-8F02-7DEA6690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C336-5BCF-43EB-A183-DF8B2D05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01A0-CCDF-4CA5-B307-02DDAE02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8931-2105-46F6-AE6B-D8ACFECB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8D0E-06A0-49B6-A717-701DE1CF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3004-8CCA-42DB-9374-D3FBE781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DBE6-497B-4ED8-B0A2-7546E70B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5E65-FF69-45E2-8C45-9422B399A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8964-328E-4336-B854-55C5F9264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EA7A9-E10F-4D38-A900-8177E001E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E63AD-48A1-459B-B80F-39E89B12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2F3C5-9BA3-422A-9710-32B67E8B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A13B0-5DB8-4ADF-82B8-20418B45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D9939-C7C9-45F2-BE72-35ED63AA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9DA8-D98A-4143-9789-4524FC28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3B9A1-FA08-434F-91E6-A39881AE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93D1C-4872-4A79-A0D1-E577A5A7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3CD91-6B47-4AE4-B520-25107A9D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00BAB-C655-4DF7-B94E-5FE2686F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40D5C-0B40-4872-84DD-D6D96A2C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7A1D7-E1E4-4039-AE46-65D39EDA9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996E9-3D28-4613-AB00-7CAEC621F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4F742-802E-4D64-9495-C4807E93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FAB5E-E110-43A3-9245-DB2CA5E3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13927-C72A-4AFF-9BD8-55052136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8A08-EB0F-407F-AD36-F3CCC300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51515-AF90-4A96-9636-2C7708E0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52D08-4B93-4F14-A2D7-CCB11C97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0F204-EB55-4D2D-A8E4-C7EA1354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5560C-4863-495A-9108-9B46863A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89E17-8115-41BC-892E-84A62A22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18BCB-6E76-4F5B-A7CE-49631BC8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46D3C-04C0-4273-8BD3-AA93C368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B257F-F8FB-401F-AC86-A073D95F3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8D01A-0260-4899-B51A-0E29AAB7C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F6B18-2390-40B6-A999-D03D6192A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3CD7-FE0D-4629-82AE-2BF1B354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E58EC-BAF1-45B9-8C47-4BC97403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99402-B6BC-40DC-BEB7-2AE3A923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A691D-074F-4924-A519-693A634B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37FC5-3D5D-4BEC-B4EE-BB3112ED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145BE-9DBA-4C82-8854-4561B81D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F7B9E-CC01-4D32-AA28-BDD9408F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F34D4-12F5-46F3-8E89-64DFAAFD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F883F-7517-441F-80B8-B7F206D5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E5D2E-DC69-4E7F-A650-C98C4307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781C9-C33C-4265-AC9C-A4F304753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2EBA-B08E-448B-95B9-82BCEAAC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F3130-2999-427C-A413-0999A4069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6CBB7-C582-4D83-87E4-CA566C2A5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5F3ED-073C-4F4D-A4EC-611F1BF3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B2CA4-9765-4EBB-84C0-D11B9D42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1FC08-3653-4A26-A934-8CE14C98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7702D-4C3F-404F-82D9-368EEBF5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B9D80-FE3A-40DE-9605-10EE58C3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AAEA7-D164-4758-B1F2-E38D11B1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0F4BF-AD61-4B25-9816-132460C4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8C2DE-B094-4F22-91CA-06238115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0F3F-8E51-4941-80D4-1F758D17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16D2F-9ECB-432D-B615-AD278DD9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7BB8C-B003-49AD-85E5-84576163D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DE1E8-66FE-48AB-9537-5494DD2AC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00BBD-00DC-41A8-B3DB-8B9760AB9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B7E05-8B24-4A1D-8C76-7AB2BBE2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50997-122C-4C90-86C0-AB9E83FD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74AF8-D701-4774-9DAB-3D4049BB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8107C-3069-472B-B675-D06E5899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61333-D5E0-486E-9543-BC4A43E9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9036F-EDC9-47C5-9C90-14CF9203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28E6-A735-45A7-A0E7-E5E3A2F1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7D7CB-096D-4F7E-983C-97FF555E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CA2D2-96C7-4F62-B7CA-777BC8FF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3D685-3D57-4528-B2EE-06A9B88D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9616E-D2D9-4DBE-AA8D-FBE096C2E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D34F9-149C-4B36-9995-C36B1C420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46B78-DA14-4783-90AF-6A6994F6A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40EF8-68A1-4DCF-92CC-EEF098AC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C2794-1798-4C85-9528-393DB4EE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60D09-E670-46BB-9CAF-952ED991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7CA5E-4C30-442D-8969-D1330B24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0FAF-438E-4A20-ADF7-F485B2B5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BBFB7-B26F-47EC-8A1F-D1DA73CF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93F2D-0073-4670-832E-2B3E97C3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C7BB5-B311-413F-ABDB-B6051AC6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2236D-4146-468F-A28C-922537D6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60107-7937-4D72-81A8-84B55D3D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9D3F7-BE18-4F31-9244-864FA0925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9E6A8-013F-4320-B71C-A8B0267B7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CEB57-995D-4353-987D-7D07B7323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BD5FC-5EFE-41F9-B251-265F4369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BDF0E-A0C4-409D-B4B1-030EE660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7D77-164F-4E27-BA6F-F11A4092020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4A9C-2B20-46DD-9632-36F5CE967F9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319C-D35B-4200-BDFA-7571D075655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96D6-0367-4F69-9CC4-E9F2CB8006A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8CFE-C76C-4AB3-B5A7-46999A47CAB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A887-C7D3-4E03-9CD3-A776DF15468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5935-CDE6-42CF-9070-F43D0474999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29E3-F1BC-4476-B7D4-6EC10A86014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7030-2B72-4359-8D27-5E262EF7AE4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5737-97B4-4931-BDB9-0254B5F01DF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C8FC-4153-4C0C-A725-C53C060F644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3246-4CD1-46F9-8961-C6EBC9F6EF7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71 Ó, svätý, Bože, Otče všemohúc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Ó, svätý Bože, Otče všemohúc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oj ľud sa blíž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tebe s pokorou,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tvojej lásky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lameň nehasnúc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ája vždy v jedno týchto manželov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ruj im radosť, pokoj duše stál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ieč rany, utíš každý srdca bôľ,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j, aby v láske verne zotrval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iežby si ty v nich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slávený bol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12T13:44:08Z</dcterms:modified>
  <cp:revision>73</cp:revision>
  <dc:subject/>
  <dc:title>Je veľký náš Pán, on slávy je Kráľ Nech do všetkých strán  spev vrúcnych znie chvál.</dc:title>
</cp:coreProperties>
</file>